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88F-1444-4F1B-A771-04CAAFFC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6253-E6E5-4AC8-B306-9B6620D4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8FB1-DCE2-466A-BE54-CE042515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CF9-6BF1-48A5-9A28-A6BB049D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1B4A-C6D4-4214-A607-323CEB3A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88EA-2225-4CA9-BEE4-79CD0141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E9C0-945D-4DE7-BA34-60D3768B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91C9-9BFA-43C7-8F24-2014E917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BB15-FC29-4F16-87E5-D910FCBD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8AEC-3D20-40A2-8373-55235A88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F6DF-E20E-4720-B243-DDD23C40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BD64-84F6-4394-BBBA-93154A6C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52D2-0EFA-40C5-AB39-EDE58024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6C03-3700-4BDA-B8DE-45384F23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890F-5EF3-4A78-AD94-E18FE727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052E-C014-4CC5-964A-4EB70F74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1212-7D33-4D23-8129-ED3AF116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DC0A-1871-4533-8AE5-8D4CC2D9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B5DB-09CF-4F2D-B285-970F6331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B43B-CB66-415D-9B16-1A445FD7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AC2C-A6B7-4CE0-8ABA-1A904F58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4427-822A-4294-8DE8-2D4F531F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838E-056B-4D0C-912F-00C694C4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307-28B5-4ACE-8A3C-A02397E1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F042-AD99-4EA9-9704-54378B9F93E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8804-F9AF-4611-BE07-0137E636721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13712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Go Tell The Good News</a:t>
            </a:r>
            <a:br>
              <a:rPr sz="48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ummary of Romans (Chapters 1-7)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Quarter 12, Lesson 7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Rom. 1-7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ages 167-17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utting Off S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is no victory if we continue in sin 6: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rist died so that we would no longer be slaves to sin vs. 3-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not let sin reign over your being vs. 1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 yourself a good example of righteousness to God vs. 1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scape sin through grace vs. 1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utting Off S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not use human weakness as an excuse to keep sinning 6:1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you abstain from sin and serve God, you will be granted eternal life vs. 2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are weak alone 7:15, 7:2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’s wrath is for those who do not heed his word and follow hi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are weak and sinful creatures who without Christ will peris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th Christ we can become righteo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become righteous we must first put on Christ, and then through faith and trust in God we can achieve that go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tline Of Romans (1-7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eeting 1:1-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pression of Wish to Visit 1:8-1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’s Wrath and Judgment 1:18-32, 2:1-16, 3:1-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dressing the Jews 2:17-29, 3:9-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ighteousness through Faith 3:21-26, 4:1-25, 5:1-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Problem and Solution of Sin 5:6-21, 6:1-23, 7:1-2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ul did not start the church at Ro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ul had tried to visit this congregation many tim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ote the book of Romans in the winter of A.D. 57 while at Corinth on his third missionary journe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iscilla and Aquila are back in Ro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e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lled to be an apost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sus was born of David’s se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have received grace from Chri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sh To Visi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ul wants to be with those in Rome if it be God’s will 1: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wishes to be with them for mutual encouragement - vs. 1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has tried to come before but was unable - vs. 1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is anxious to preach to them - vs. 1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od’s Wrath On The Unrighteou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wrath of God will be released on all those who continue in their unrighteousness vs. 1:1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because they knew God but did not glory in him or acknowledge his greatness vs. 2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changed the glory of God into a corruptible image vs. 2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gave themselves up to vile passions and the most base sins vs. 26-3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Judg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not judge one another or you condemn yourself to the same 2: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 one will escape judgment vs. 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r hardness of heart will seal your fate vs. 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not hide from God vs. 1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Je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Jews are just as bad as the Gentil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ircumcision has no bearing on a man’s fai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ws and Gentiles are under the same la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ighteousness Through Fai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braham was accounted righteous because of his faith 4: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not be ashamed of your faith 1:1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not lose faith in times of trouble 5: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rist died for us so we would have the chance to obtain faith and hope, even while we were in sin 5: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03:30:32Z</dcterms:created>
  <dc:creator>Tab L. Vines</dc:creator>
  <dc:description/>
  <dc:language>en-US</dc:language>
  <cp:lastModifiedBy>Frank D Vines</cp:lastModifiedBy>
  <dcterms:modified xsi:type="dcterms:W3CDTF">2007-01-28T14:36:30Z</dcterms:modified>
  <cp:revision>20</cp:revision>
  <dc:subject/>
  <dc:title>Go Tell The Good News Summary of Romans (Chapters 1-7) Quarter 12,Lesson 7 Rom. 1-7 Pages 167-172</dc:title>
</cp:coreProperties>
</file>